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4AF-BEC0-4E00-B7B5-F62F71CC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ACB-FD37-4487-82D5-D7E5EDCC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C41-394F-4D18-B25B-7384ADA0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D34-3A50-49B1-BE44-266858EF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CA2-B5F3-47A7-9005-A54C244B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109-86B8-4A06-A9FA-1510AE0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B0D-6491-4646-853E-AD7EA742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B53-3EB7-45D1-B1DF-1D2DB5C9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791-EC4A-4929-BB4D-C53156EA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EF2-A8B2-4E78-A008-F77CFED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8E0-AB1C-4C4A-9BA0-5DFCC0B7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8D2-04BB-4567-B90B-9ABC806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85B2-DE9D-4545-8687-AF9C1D29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y Want a Weigh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of the Tig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Me!  I’m Macho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"/>
          <p:cNvPicPr/>
          <p:nvPr/>
        </p:nvPicPr>
        <p:blipFill>
          <a:blip r:embed="rId1"/>
          <a:stretch/>
        </p:blipFill>
        <p:spPr>
          <a:xfrm>
            <a:off x="1523880" y="1676520"/>
            <a:ext cx="58356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 Waltz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 Me Brother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Yanking My Chain         We’re Going to Broad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Porcup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wers of Do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m Never Playing Truth or Dar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hoto"/>
          <p:cNvPicPr/>
          <p:nvPr/>
        </p:nvPicPr>
        <p:blipFill>
          <a:blip r:embed="rId1"/>
          <a:stretch/>
        </p:blipFill>
        <p:spPr>
          <a:xfrm>
            <a:off x="2743200" y="1523880"/>
            <a:ext cx="34034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Getting Hot In Here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eautiful Mind in a Dark Worl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se Ke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apt.sge.msi60.231007171118.photo05.photo.default-512x332" descr="Photo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Hiding from the Puparazz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y Chihuah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Photo"/>
          <p:cNvPicPr/>
          <p:nvPr/>
        </p:nvPicPr>
        <p:blipFill>
          <a:blip r:embed="rId1"/>
          <a:stretch/>
        </p:blipFill>
        <p:spPr>
          <a:xfrm>
            <a:off x="2590920" y="1600200"/>
            <a:ext cx="3398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hed Spiri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utiful Soul, Lonely Hea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Photo"/>
          <p:cNvPicPr/>
          <p:nvPr/>
        </p:nvPicPr>
        <p:blipFill>
          <a:blip r:embed="rId1"/>
          <a:stretch/>
        </p:blipFill>
        <p:spPr>
          <a:xfrm>
            <a:off x="1219320" y="1523880"/>
            <a:ext cx="66736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o Earthlings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me In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4678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l Frogneve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n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hotoMain" descr="Oui the frog sits on a miniature motorcycle in the eastern beach ..."/>
          <p:cNvPicPr/>
          <p:nvPr/>
        </p:nvPicPr>
        <p:blipFill>
          <a:blip r:embed="rId1"/>
          <a:stretch/>
        </p:blipFill>
        <p:spPr>
          <a:xfrm>
            <a:off x="762120" y="1752480"/>
            <a:ext cx="7010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m Seeing Stripes Not Stars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Worlds Colli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ck…Is that What I Really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Photo"/>
          <p:cNvPicPr/>
          <p:nvPr/>
        </p:nvPicPr>
        <p:blipFill>
          <a:blip r:embed="rId1"/>
          <a:stretch/>
        </p:blipFill>
        <p:spPr>
          <a:xfrm>
            <a:off x="1828800" y="1523880"/>
            <a:ext cx="51814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Should’ve Gone Figure Skating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Seeing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hotoMain" descr="Dallas Stars goalie Marty Turco looks at the puck after deflecting ..."/>
          <p:cNvPicPr/>
          <p:nvPr/>
        </p:nvPicPr>
        <p:blipFill>
          <a:blip r:embed="rId1"/>
          <a:stretch/>
        </p:blipFill>
        <p:spPr>
          <a:xfrm>
            <a:off x="1752480" y="1676520"/>
            <a:ext cx="47246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cond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Some Lotion, I’m Feeling a Little Sca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ke in H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hotoMain" descr="Painted snake : A model&amp;#39;s hand is painted to look like a ...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ne of Us Is Facing Forward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-Headed Freak….Run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Heads Are Better Than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hoto"/>
          <p:cNvPicPr/>
          <p:nvPr/>
        </p:nvPicPr>
        <p:blipFill>
          <a:blip r:embed="rId1"/>
          <a:stretch/>
        </p:blipFill>
        <p:spPr>
          <a:xfrm>
            <a:off x="1295280" y="1981080"/>
            <a:ext cx="6222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 Is In The Eye of the Behol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hotoMain" descr="Guinness World Record holder for the 'Most Pierced Woman', ..."/>
          <p:cNvPicPr/>
          <p:nvPr/>
        </p:nvPicPr>
        <p:blipFill>
          <a:blip r:embed="rId1"/>
          <a:stretch/>
        </p:blipFill>
        <p:spPr>
          <a:xfrm>
            <a:off x="2514600" y="1523880"/>
            <a:ext cx="36482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, Antarctica, What’s the Differen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AAuuugh!  The Sky Is Fal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hotoMain" descr="This handout photo provided by the Smithsonian's National Zoo ..."/>
          <p:cNvPicPr/>
          <p:nvPr/>
        </p:nvPicPr>
        <p:blipFill>
          <a:blip r:embed="rId1"/>
          <a:stretch/>
        </p:blipFill>
        <p:spPr>
          <a:xfrm>
            <a:off x="1295280" y="1828800"/>
            <a:ext cx="6267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Love Conquers 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Here For You D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A7.1190824742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688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Ice, Ice, Bab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The Coast of Greenland rises from the Norwegian Sea."/>
          <p:cNvPicPr/>
          <p:nvPr/>
        </p:nvPicPr>
        <p:blipFill>
          <a:blip r:embed="rId1"/>
          <a:stretch/>
        </p:blipFill>
        <p:spPr>
          <a:xfrm>
            <a:off x="990720" y="1752480"/>
            <a:ext cx="68720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Goodness for Velcro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ing Life on the Edge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m Stuck on Yo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man’s New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o by Night, Window Washer b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Window washing cleaners glass"/>
          <p:cNvPicPr/>
          <p:nvPr/>
        </p:nvPicPr>
        <p:blipFill>
          <a:blip r:embed="rId1"/>
          <a:stretch/>
        </p:blipFill>
        <p:spPr>
          <a:xfrm>
            <a:off x="914400" y="1600200"/>
            <a:ext cx="7101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Let the Dog Drive….Woof, Woof    Name’s Dog:  James 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ney Spears Look Out, Here Comes Bow Wow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y Buddy, Hurry Up, I’ve Got a Hot D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hoto"/>
          <p:cNvPicPr/>
          <p:nvPr/>
        </p:nvPicPr>
        <p:blipFill>
          <a:blip r:embed="rId1"/>
          <a:stretch/>
        </p:blipFill>
        <p:spPr>
          <a:xfrm>
            <a:off x="1295280" y="1981080"/>
            <a:ext cx="68580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 Me The Spray Pai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Not A Beauty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MA15.1191428875" descr=""/>
          <p:cNvPicPr/>
          <p:nvPr/>
        </p:nvPicPr>
        <p:blipFill>
          <a:blip r:embed="rId1"/>
          <a:stretch/>
        </p:blipFill>
        <p:spPr>
          <a:xfrm>
            <a:off x="1219320" y="1460520"/>
            <a:ext cx="63244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I’ve Got Meow Mai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Ever Heard of an Electronic Mouse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 Dollar Litter Box on eB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hoto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4:36:47Z</dcterms:created>
  <dc:creator>jleff</dc:creator>
  <dc:description/>
  <dc:language>en-US</dc:language>
  <cp:lastModifiedBy> Judy Leff</cp:lastModifiedBy>
  <dcterms:modified xsi:type="dcterms:W3CDTF">2008-08-08T19:36:00Z</dcterms:modified>
  <cp:revision>49</cp:revision>
  <dc:subject/>
  <dc:title>Slide 1</dc:title>
</cp:coreProperties>
</file>